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75C2-5001-4CF0-8739-029E9A754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B757-E4C9-4116-A144-B173EC36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5E13-7679-41AE-B292-0E280CD10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A0F0-2342-4B94-93A4-46B5F3752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1D2B-E9E7-4FB8-A7DF-9675AE2E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E7E4-2492-46D2-9F61-3549C965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8F84-C9CA-4513-891C-8FFC3770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9CD4-10B9-45FE-9760-4B92DA64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ECAD-5805-4DBC-9B3D-DDEDDA83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0E6A-4F2A-4FE5-B156-C4D9FBDA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0342-F753-45C2-A4F2-BA043B84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EA3B-4266-4CCA-9FB8-8BE334CA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5790-5B5A-4178-B012-851602C7A728}" type="slidenum">
              <a:rPr b="0" lang="ar-J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434360" y="4343400"/>
            <a:ext cx="1709640" cy="25146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1522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000" spc="-1" strike="noStrike">
                <a:solidFill>
                  <a:srgbClr val="000000"/>
                </a:solidFill>
                <a:latin typeface="Arial"/>
              </a:rPr>
              <a:t>برفع اسمك وبصليلك </a:t>
            </a:r>
            <a:br>
              <a:rPr sz="5000"/>
            </a:br>
            <a:r>
              <a:rPr b="1" lang="ar-JO" sz="5000" spc="-1" strike="noStrike">
                <a:solidFill>
                  <a:srgbClr val="000000"/>
                </a:solidFill>
                <a:latin typeface="Arial"/>
              </a:rPr>
              <a:t>ربي بخشوع</a:t>
            </a:r>
            <a:br>
              <a:rPr sz="5000"/>
            </a:br>
            <a:br>
              <a:rPr sz="5000"/>
            </a:br>
            <a:r>
              <a:rPr b="1" lang="ar-JO" sz="5000" spc="-1" strike="noStrike">
                <a:solidFill>
                  <a:srgbClr val="000000"/>
                </a:solidFill>
                <a:latin typeface="Arial"/>
              </a:rPr>
              <a:t>ولما بتحكيني بصغيلك، </a:t>
            </a:r>
            <a:br>
              <a:rPr sz="5000"/>
            </a:br>
            <a:r>
              <a:rPr b="1" lang="ar-JO" sz="5000" spc="-1" strike="noStrike">
                <a:solidFill>
                  <a:srgbClr val="000000"/>
                </a:solidFill>
                <a:latin typeface="Arial"/>
              </a:rPr>
              <a:t>ألبي إلك مرفوع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533520" y="3048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6400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مهما وجود الشر بيبقى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 وجودك راح يحمينا</a:t>
            </a:r>
            <a:br>
              <a:rPr sz="5000"/>
            </a:b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مهما الموت علينا بيقسى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 روحك راح تحيين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انت الحق وانت النور 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ضوي نورك فينا</a:t>
            </a:r>
            <a:br>
              <a:rPr sz="5000"/>
            </a:b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حتى اللي بالعتمة مغمور يعرف معنى النور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000" spc="-1" strike="noStrike">
                <a:solidFill>
                  <a:srgbClr val="000000"/>
                </a:solidFill>
                <a:latin typeface="Arial"/>
              </a:rPr>
              <a:t>برفع اسمك وبصليلك </a:t>
            </a:r>
            <a:br>
              <a:rPr sz="5000"/>
            </a:br>
            <a:r>
              <a:rPr b="1" lang="ar-JO" sz="5000" spc="-1" strike="noStrike">
                <a:solidFill>
                  <a:srgbClr val="000000"/>
                </a:solidFill>
                <a:latin typeface="Arial"/>
              </a:rPr>
              <a:t>ربي بخشوع</a:t>
            </a:r>
            <a:br>
              <a:rPr sz="5000"/>
            </a:br>
            <a:br>
              <a:rPr sz="5000"/>
            </a:br>
            <a:r>
              <a:rPr b="1" lang="ar-JO" sz="5000" spc="-1" strike="noStrike">
                <a:solidFill>
                  <a:srgbClr val="000000"/>
                </a:solidFill>
                <a:latin typeface="Arial"/>
              </a:rPr>
              <a:t>ولما بتحكيني بصغيلك،</a:t>
            </a:r>
            <a:br>
              <a:rPr sz="5000"/>
            </a:br>
            <a:r>
              <a:rPr b="1" lang="ar-JO" sz="5000" spc="-1" strike="noStrike">
                <a:solidFill>
                  <a:srgbClr val="000000"/>
                </a:solidFill>
                <a:latin typeface="Arial"/>
              </a:rPr>
              <a:t> ألبي إلك مرفوع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شربنا كلنا من هالكاس 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دمك يا فادينا</a:t>
            </a:r>
            <a:br>
              <a:rPr sz="5000"/>
            </a:b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وصلينالك بالقداس 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تقدسنا وتهدينا</a:t>
            </a:r>
            <a:r>
              <a:rPr b="0" lang="ar-SA" sz="5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بكرى لما نلاقي الناس 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يشوفو وجك فينا</a:t>
            </a:r>
            <a:br>
              <a:rPr sz="5000"/>
            </a:b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ويفهموا انو الأساس 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يبقى صوتك مسموع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000" spc="-1" strike="noStrike">
                <a:solidFill>
                  <a:srgbClr val="000000"/>
                </a:solidFill>
                <a:latin typeface="Arial"/>
              </a:rPr>
              <a:t>برفع اسمك وبصليلك </a:t>
            </a:r>
            <a:br>
              <a:rPr sz="5000"/>
            </a:br>
            <a:r>
              <a:rPr b="1" lang="ar-JO" sz="5000" spc="-1" strike="noStrike">
                <a:solidFill>
                  <a:srgbClr val="000000"/>
                </a:solidFill>
                <a:latin typeface="Arial"/>
              </a:rPr>
              <a:t>ربي بخشوع</a:t>
            </a:r>
            <a:br>
              <a:rPr sz="5000"/>
            </a:br>
            <a:br>
              <a:rPr sz="5000"/>
            </a:br>
            <a:r>
              <a:rPr b="1" lang="ar-JO" sz="5000" spc="-1" strike="noStrike">
                <a:solidFill>
                  <a:srgbClr val="000000"/>
                </a:solidFill>
                <a:latin typeface="Arial"/>
              </a:rPr>
              <a:t>ولما بتحكيني بصغيلك،</a:t>
            </a:r>
            <a:br>
              <a:rPr sz="5000"/>
            </a:br>
            <a:r>
              <a:rPr b="1" lang="ar-JO" sz="5000" spc="-1" strike="noStrike">
                <a:solidFill>
                  <a:srgbClr val="000000"/>
                </a:solidFill>
                <a:latin typeface="Arial"/>
              </a:rPr>
              <a:t> ألبي إلك مرفوع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08:29:49Z</dcterms:created>
  <dc:creator>user</dc:creator>
  <dc:description/>
  <dc:language>en-US</dc:language>
  <cp:lastModifiedBy>user</cp:lastModifiedBy>
  <dcterms:modified xsi:type="dcterms:W3CDTF">2006-05-05T05:41:40Z</dcterms:modified>
  <cp:revision>14</cp:revision>
  <dc:subject/>
  <dc:title>Slide 1</dc:title>
</cp:coreProperties>
</file>